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973A-33B1-4507-9737-D71679FA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D7EA-BCD5-40DC-BE91-1E4B6A0C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D5D3-8133-4E48-A589-7F8B44AD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1464-0F4E-40B4-ACCA-D036466A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5225-7788-4E6E-914D-8057637C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19E9-41F7-4076-9E2E-E381E461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BDEB-BEDB-4673-88E1-1EB26694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A2C3-919D-46FE-A4E9-35566A1E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C647-1C5C-4F80-A9AC-76D36514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748D-7583-444B-B113-49E65F05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E3A1-BA0C-4111-90A9-DA13FC57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F8EB-6C8E-46D7-9B88-D9FBEA4E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B1E4-506E-4EFA-AD6E-1670737E4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最適化・シミュレーション演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62864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補足：切除平面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50920" y="2421000"/>
            <a:ext cx="813744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ＭＳ Ｐゴシック"/>
              </a:rPr>
              <a:t>授業サポートページ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://www.shiina.mgmt.waseda.ac.jp/or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数理計画による最適化と（離散事象型）シミュレーションに関する演習を行う．使用するソフトウェアは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rob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た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LEX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および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8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想定している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演習では，数理計画による最適化やシミュレーションの実践的能力を身につけることを目指す。履修者は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用できる環境を有す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持参すること。受講者は，実験室にて，演習で使用す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8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ダウンロード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スライド番号プレースホルダー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FD6A-BA6B-439E-B120-F8A3E86B3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整数計画法と妥当不等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920" y="3141360"/>
            <a:ext cx="7848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整数計画問題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実行可能集合を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と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すべての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∊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が成立するとき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する妥当不等式とい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問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P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連続緩和問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∊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最適解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’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∊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とならない場合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’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排除した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すべての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∊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満たし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となる妥当不等式を切除平面とい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オブジェクト 1"/>
              <p:cNvSpPr txBox="1"/>
              <p:nvPr/>
            </p:nvSpPr>
            <p:spPr>
              <a:xfrm>
                <a:off x="887400" y="934920"/>
                <a:ext cx="3059280" cy="19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max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bject to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≤</m:t>
                            </m:r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851280" y="1571760"/>
          <a:ext cx="4824360" cy="4622760"/>
        </p:xfrm>
        <a:graphic>
          <a:graphicData uri="http://schemas.openxmlformats.org/drawingml/2006/table">
            <a:tbl>
              <a:tblPr/>
              <a:tblGrid>
                <a:gridCol w="896760"/>
                <a:gridCol w="774720"/>
                <a:gridCol w="776520"/>
                <a:gridCol w="838080"/>
                <a:gridCol w="770040"/>
                <a:gridCol w="768240"/>
              </a:tblGrid>
              <a:tr h="366120">
                <a:tc rowSpan="5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IP)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LP)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実行可能領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線コネクタ 18"/>
          <p:cNvSpPr/>
          <p:nvPr/>
        </p:nvSpPr>
        <p:spPr>
          <a:xfrm>
            <a:off x="4311720" y="2637000"/>
            <a:ext cx="3240000" cy="30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オブジェクト 19"/>
              <p:cNvSpPr txBox="1"/>
              <p:nvPr/>
            </p:nvSpPr>
            <p:spPr>
              <a:xfrm>
                <a:off x="123840" y="1101600"/>
                <a:ext cx="4201920" cy="202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max 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bject to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0,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最適解は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,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円/楕円 21"/>
          <p:cNvSpPr/>
          <p:nvPr/>
        </p:nvSpPr>
        <p:spPr>
          <a:xfrm>
            <a:off x="4660920" y="3738600"/>
            <a:ext cx="1443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円/楕円 22"/>
          <p:cNvSpPr/>
          <p:nvPr/>
        </p:nvSpPr>
        <p:spPr>
          <a:xfrm>
            <a:off x="4660920" y="5235480"/>
            <a:ext cx="1443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円/楕円 23"/>
          <p:cNvSpPr/>
          <p:nvPr/>
        </p:nvSpPr>
        <p:spPr>
          <a:xfrm>
            <a:off x="6230880" y="52354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オブジェクト 25"/>
              <p:cNvSpPr txBox="1"/>
              <p:nvPr/>
            </p:nvSpPr>
            <p:spPr>
              <a:xfrm>
                <a:off x="250920" y="3255840"/>
                <a:ext cx="3111480" cy="26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max 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bject to 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/>
                    </m:eqArr>
                    <m:r>
                      <m:rPr>
                        <m:lit/>
                        <m:nor/>
                      </m:rPr>
                      <m:t xml:space="preserve">最適解は</m:t>
                    </m:r>
                    <m:r>
                      <m:rPr>
                        <m:lit/>
                        <m:nor/>
                      </m:rPr>
                      <m:t xml:space="preserve">x*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直線コネクタ 30"/>
          <p:cNvSpPr/>
          <p:nvPr/>
        </p:nvSpPr>
        <p:spPr>
          <a:xfrm>
            <a:off x="4572000" y="2009880"/>
            <a:ext cx="1962000" cy="37447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フリーフォーム 32"/>
          <p:cNvSpPr/>
          <p:nvPr/>
        </p:nvSpPr>
        <p:spPr>
          <a:xfrm>
            <a:off x="4734000" y="3809880"/>
            <a:ext cx="1568520" cy="1497240"/>
          </a:xfrm>
          <a:custGeom>
            <a:avLst/>
            <a:gdLst/>
            <a:ahLst/>
            <a:rect l="l" t="t" r="r" b="b"/>
            <a:pathLst>
              <a:path w="1568823" h="1497106">
                <a:moveTo>
                  <a:pt x="0" y="0"/>
                </a:moveTo>
                <a:lnTo>
                  <a:pt x="17929" y="1497106"/>
                </a:lnTo>
                <a:lnTo>
                  <a:pt x="1568823" y="1488141"/>
                </a:lnTo>
                <a:lnTo>
                  <a:pt x="1568823" y="726141"/>
                </a:lnTo>
                <a:lnTo>
                  <a:pt x="788894" y="8965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10000"/>
            </a:srgbClr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線コネクタ 35"/>
          <p:cNvSpPr/>
          <p:nvPr/>
        </p:nvSpPr>
        <p:spPr>
          <a:xfrm>
            <a:off x="4951440" y="1989000"/>
            <a:ext cx="1962000" cy="3743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線コネクタ 36"/>
          <p:cNvSpPr/>
          <p:nvPr/>
        </p:nvSpPr>
        <p:spPr>
          <a:xfrm>
            <a:off x="5330880" y="1968480"/>
            <a:ext cx="1962000" cy="3743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スライド番号プレースホルダー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B3D2-F39E-432D-B29D-EDABE21E5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ナップサック問題に対する妥当不等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052640"/>
            <a:ext cx="7561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P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 最大化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Σ</a:t>
            </a:r>
            <a:r>
              <a:rPr b="0" i="1" lang="en-US" sz="2400" spc="-1" strike="noStrike" baseline="5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制約　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Σ</a:t>
            </a:r>
            <a:r>
              <a:rPr b="0" i="1" lang="en-US" sz="2400" spc="-1" strike="noStrike" baseline="5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≦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∈{0,1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755640" y="2276640"/>
            <a:ext cx="7561440" cy="381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被覆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： 集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1,2,…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Σ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∊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&gt;b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が成立するとき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する被覆とい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容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上回る品物の組合せ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妥当不等式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：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Σ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∊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被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含まれる品物を全てナップサックに入れることはでき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容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上回る品物の組合せに対し、ナップサックに入れられる品物の個数は、多くて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属する品物の数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851280" y="1571760"/>
          <a:ext cx="4824360" cy="4622760"/>
        </p:xfrm>
        <a:graphic>
          <a:graphicData uri="http://schemas.openxmlformats.org/drawingml/2006/table">
            <a:tbl>
              <a:tblPr/>
              <a:tblGrid>
                <a:gridCol w="896760"/>
                <a:gridCol w="774720"/>
                <a:gridCol w="776520"/>
                <a:gridCol w="838080"/>
                <a:gridCol w="770040"/>
                <a:gridCol w="768240"/>
              </a:tblGrid>
              <a:tr h="366120">
                <a:tc rowSpan="5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-1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実行可能領域と妥当不等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線コネクタ 18"/>
          <p:cNvSpPr/>
          <p:nvPr/>
        </p:nvSpPr>
        <p:spPr>
          <a:xfrm>
            <a:off x="4211640" y="2565360"/>
            <a:ext cx="3240000" cy="30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円/楕円 21"/>
          <p:cNvSpPr/>
          <p:nvPr/>
        </p:nvSpPr>
        <p:spPr>
          <a:xfrm>
            <a:off x="4643280" y="371628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円/楕円 22"/>
          <p:cNvSpPr/>
          <p:nvPr/>
        </p:nvSpPr>
        <p:spPr>
          <a:xfrm>
            <a:off x="4654440" y="52592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円/楕円 23"/>
          <p:cNvSpPr/>
          <p:nvPr/>
        </p:nvSpPr>
        <p:spPr>
          <a:xfrm>
            <a:off x="6194520" y="5259240"/>
            <a:ext cx="1443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線コネクタ 26"/>
          <p:cNvSpPr/>
          <p:nvPr/>
        </p:nvSpPr>
        <p:spPr>
          <a:xfrm>
            <a:off x="4637160" y="1989000"/>
            <a:ext cx="1871640" cy="3743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線コネクタ 31"/>
          <p:cNvSpPr/>
          <p:nvPr/>
        </p:nvSpPr>
        <p:spPr>
          <a:xfrm>
            <a:off x="5003640" y="1989000"/>
            <a:ext cx="1872000" cy="3743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線コネクタ 13"/>
          <p:cNvSpPr/>
          <p:nvPr/>
        </p:nvSpPr>
        <p:spPr>
          <a:xfrm>
            <a:off x="3710160" y="2852640"/>
            <a:ext cx="3241440" cy="3097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オブジェクト 14"/>
              <p:cNvSpPr txBox="1"/>
              <p:nvPr/>
            </p:nvSpPr>
            <p:spPr>
              <a:xfrm>
                <a:off x="217440" y="3649680"/>
                <a:ext cx="3456000" cy="29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/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/>
                        </m:nary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,2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とすると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/>
                        </m:nary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&gt;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妥当不等式は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&g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フリーフォーム 20"/>
          <p:cNvSpPr/>
          <p:nvPr/>
        </p:nvSpPr>
        <p:spPr>
          <a:xfrm>
            <a:off x="4734000" y="3809880"/>
            <a:ext cx="1568520" cy="1497240"/>
          </a:xfrm>
          <a:custGeom>
            <a:avLst/>
            <a:gdLst/>
            <a:ahLst/>
            <a:rect l="l" t="t" r="r" b="b"/>
            <a:pathLst>
              <a:path w="1568823" h="1497106">
                <a:moveTo>
                  <a:pt x="0" y="0"/>
                </a:moveTo>
                <a:lnTo>
                  <a:pt x="17929" y="1497106"/>
                </a:lnTo>
                <a:lnTo>
                  <a:pt x="1568823" y="1488141"/>
                </a:lnTo>
                <a:lnTo>
                  <a:pt x="1568823" y="726141"/>
                </a:lnTo>
                <a:lnTo>
                  <a:pt x="788894" y="8965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10000"/>
            </a:srgbClr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オブジェクト 2"/>
              <p:cNvSpPr txBox="1"/>
              <p:nvPr/>
            </p:nvSpPr>
            <p:spPr>
              <a:xfrm>
                <a:off x="179280" y="907920"/>
                <a:ext cx="4202280" cy="15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max 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bject to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0,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オブジェクト 3"/>
              <p:cNvSpPr txBox="1"/>
              <p:nvPr/>
            </p:nvSpPr>
            <p:spPr>
              <a:xfrm>
                <a:off x="179280" y="2363760"/>
                <a:ext cx="311148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max 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bject to 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スライド番号プレースホルダー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1DCE-EB8B-4E1D-BA28-5DA2EB17A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妥当不等式と分離問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0920" y="1052640"/>
            <a:ext cx="7561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P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 最大化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Σ</a:t>
            </a:r>
            <a:r>
              <a:rPr b="0" i="1" lang="en-US" sz="2400" spc="-1" strike="noStrike" baseline="5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制約　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Σ</a:t>
            </a:r>
            <a:r>
              <a:rPr b="0" i="1" lang="en-US" sz="2400" spc="-1" strike="noStrike" baseline="5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≦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∈{0,1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755640" y="2276640"/>
            <a:ext cx="7561440" cy="432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問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P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連続緩和問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LP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最適解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Σ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∊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ja-JP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満たすような被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求めたい。変形すると、以下を満た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求めれば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Σ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∊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ja-JP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＞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各品物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が被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属するか否かを示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-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変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用いると、緩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P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最適解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ja-JP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分離する妥当不等式を求める問題（分離問題）は以下のようにな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分離問題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violation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Σ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∊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ja-JP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ject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Σ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∊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gt;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∈{0,1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スライド番号プレースホルダー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861B-FDB7-49C7-98CF-C407E4C95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分離問題と貪欲解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646200" y="2060640"/>
            <a:ext cx="7559640" cy="432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先のデータを用いると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ja-JP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ja-JP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/2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ject to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∈{0,1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こ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-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整数計画問題の最適解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(1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貪欲解法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ja-JP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/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大きい順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加えてい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この例では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順に加え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1"/>
          <p:cNvSpPr/>
          <p:nvPr/>
        </p:nvSpPr>
        <p:spPr>
          <a:xfrm>
            <a:off x="611280" y="874800"/>
            <a:ext cx="657216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分離問題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violation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Σ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∊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ja-JP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ject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Σ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∊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≧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+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∈{0,1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2:47:09Z</dcterms:created>
  <dc:creator>森戸　晋</dc:creator>
  <dc:description/>
  <dc:language>en-US</dc:language>
  <cp:lastModifiedBy>TShiina</cp:lastModifiedBy>
  <cp:lastPrinted>2016-09-16T06:54:42Z</cp:lastPrinted>
  <dcterms:modified xsi:type="dcterms:W3CDTF">2016-09-16T07:01:01Z</dcterms:modified>
  <cp:revision>177</cp:revision>
  <dc:subject/>
  <dc:title>数理計画問題の定式化</dc:title>
</cp:coreProperties>
</file>