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268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F2BB5B3-390A-4D61-B7EB-5E977DB6F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スライド番号プレースホルダ 3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DC4E9EC-2AF5-41FD-9622-BA7544FDD1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スライド番号プレースホルダ 3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578A9D4-1A3D-4CAE-8C94-4A51CD2E69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スライド番号プレースホルダ 3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0A50141-6422-42F5-AA67-E382AAE4F7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スライド番号プレースホルダ 3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1B3FB93-1D9E-42E6-9B0E-332FA9A265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スライド番号プレースホルダ 3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BC1EE6A-F719-4C05-B34F-FDBBCE4AF6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スライド番号プレースホルダ 3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A9DA1B6-EEF3-4B80-A7C3-2F0E3D4F86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スライド番号プレースホルダ 3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7536E71-EE41-4C78-98FB-DF0BC09793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519BE35-D309-49FF-ADE4-4117C61977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EB814DD-F911-4519-BC4D-3718DD60E1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スライド番号プレースホルダ 3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568C14E-842C-4BE8-ACF5-11CA710C92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CFB-8EEC-4454-8C49-776B11FE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7E1-13CD-4C87-887F-3BE6FD03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450-0861-4602-8F75-830474D6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122-14A7-4CE0-971D-4497AAA9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0333-86C1-45CD-A81A-6ABB5145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F90-F10A-4FA3-9FD3-2615FD4E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46B-952A-41A2-9DAD-E07A8EDD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DBD-C46C-4FAA-8DEB-05215E79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A71-77F5-4CA2-821C-BFF99B1F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3863-141E-46EC-A369-B7E4C0D4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204-6821-4AFE-BE58-27F34D15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060-56FF-42BD-AE9B-3C40F6AA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36CE-A7EF-483B-81A1-CAD71DEB1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最適化・シミュレーション演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1628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回 分枝限定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50920" y="2421000"/>
            <a:ext cx="813744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Ｐゴシック"/>
              </a:rPr>
              <a:t>授業サポートページ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www.shiina.mgmt.waseda.ac.jp/optsi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数理計画による最適化と（離散事象型）シミュレーションに関する演習を行う．使用するソフトウェアは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rob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た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LEX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および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8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想定してい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演習では，数理計画による最適化やシミュレーションの実践的能力を身につけることを目指す。履修者は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用できる環境を有す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持参すること。受講者は，実験室にて，演習で使用す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8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ダウンロード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ナップサック問題（緩和問題）のモデルファイ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85560"/>
            <a:ext cx="8572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次のような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つのファイルを作業フォル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WORK (C:¥amplcml¥amplwork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作成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apsack-relax.mod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ル：ナップサック問題の連続緩和問題を記述した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apsack-relax.dat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ル：ナップサック問題のデータを記述した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apsack-relax.ru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ル：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コマンドを記述した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ル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apsack-relax.mod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内容 （♯以降はコメン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 Nitem;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#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品物数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tem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定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 weight{i in 1..Nitem};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各品物に重さ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を定義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（各定数、変数の次元は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item 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でよい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 value{i in 1..Nitem};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各品物に価値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を定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 l{i in 1..Nitem};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0-1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制約の緩和制約における下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 u{i in 1..Nitem};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0-1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制約の緩和制約における上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 capacity;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ナップサックの容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 x{i in 1..Nitem}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&gt;=0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#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各品物（入れ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入れない）に対応する変数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すれ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ize Profit: sum{i in 1..Nitem}value[i]*x[i];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目的関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to Capacity_Constraint: sum{i in 1..Nitem}weight[i]*x[i] &lt;= capacity;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ナップサックの容量制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to Upper_Lower_Bound {i in 1..Nitem}: l[i] &lt;= x[i] &lt;=u[i];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0-1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制約を緩和した上下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ナップサック問題（緩和問題）のコマンドスクリプ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85560"/>
            <a:ext cx="8572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apsack-relax.ru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ル：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コマンドを記述した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knapsack-relax.mod ;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モデルファイル指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knapsack-relax.dat ;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データファイル指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 display_round 6;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小数点以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桁表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 solver cplex;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ソルバ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LEX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指定、これがない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OS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が動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ve;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問題の求解（貪欲解だが、ソルバで解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and &gt; knapsack-relax.sol;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knapsack-relax.sol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定式化表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Profit &gt; knapsack-relax.sol;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knapsack-relax.sol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目的関数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x &gt; knapsack-relax.sol;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knapsack-relax.sol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最適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Capacity_Constraint.dual &gt; knapsack-relax.sol;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ナップサック制約の双対変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Upper_Lower_Bound.dual &gt; knapsack-relax.sol;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0-1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緩和制約の双対変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制約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dua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双対変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ファイル名 を省略すると、表示は画面に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マンドプロンプトにおいて、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apsack-relax.ru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」と入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適解情報ファイ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napsack-relax.sol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作成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演習問題の解を確認しよ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結果ファイル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apsack-relax.s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3280" y="907560"/>
            <a:ext cx="6553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 = 13.000000      #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適目的関数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[*] :=                          #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適な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1.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0.75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0.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双対変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_Constraint.dual = 2.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双対変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_Lower_Bound.dual [*] 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1.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0.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0.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未分枝頂点リス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_NODE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5480" y="1285920"/>
            <a:ext cx="367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未分枝頂点を配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_NODELI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子問題を解く場合、その頂点番号が削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分枝する場合、新たな頂点番号が追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_NODELIST={1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_NODELIST={2,3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_NODELIST={2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_NODELIST={5,4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_NODELIST={4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_NODELIST=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未分枝頂点リストが空集合なら終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7086600" y="1295280"/>
            <a:ext cx="914400" cy="914400"/>
            <a:chOff x="7086600" y="1295280"/>
            <a:chExt cx="914400" cy="914400"/>
          </a:xfrm>
        </p:grpSpPr>
        <p:sp>
          <p:nvSpPr>
            <p:cNvPr id="130" name="Oval 8"/>
            <p:cNvSpPr/>
            <p:nvPr/>
          </p:nvSpPr>
          <p:spPr>
            <a:xfrm>
              <a:off x="7086600" y="129528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7241040" y="15238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3"/>
          <p:cNvGrpSpPr/>
          <p:nvPr/>
        </p:nvGrpSpPr>
        <p:grpSpPr>
          <a:xfrm>
            <a:off x="6400800" y="2514600"/>
            <a:ext cx="914400" cy="914400"/>
            <a:chOff x="6400800" y="2514600"/>
            <a:chExt cx="914400" cy="914400"/>
          </a:xfrm>
        </p:grpSpPr>
        <p:sp>
          <p:nvSpPr>
            <p:cNvPr id="133" name="Oval 14"/>
            <p:cNvSpPr/>
            <p:nvPr/>
          </p:nvSpPr>
          <p:spPr>
            <a:xfrm>
              <a:off x="6400800" y="251460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5"/>
            <p:cNvSpPr/>
            <p:nvPr/>
          </p:nvSpPr>
          <p:spPr>
            <a:xfrm>
              <a:off x="6631200" y="27432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6"/>
          <p:cNvGrpSpPr/>
          <p:nvPr/>
        </p:nvGrpSpPr>
        <p:grpSpPr>
          <a:xfrm>
            <a:off x="8077320" y="4267080"/>
            <a:ext cx="914400" cy="914400"/>
            <a:chOff x="8077320" y="4267080"/>
            <a:chExt cx="914400" cy="914400"/>
          </a:xfrm>
        </p:grpSpPr>
        <p:sp>
          <p:nvSpPr>
            <p:cNvPr id="136" name="Oval 17"/>
            <p:cNvSpPr/>
            <p:nvPr/>
          </p:nvSpPr>
          <p:spPr>
            <a:xfrm>
              <a:off x="8077320" y="426708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8"/>
            <p:cNvSpPr/>
            <p:nvPr/>
          </p:nvSpPr>
          <p:spPr>
            <a:xfrm>
              <a:off x="8231760" y="44956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20"/>
          <p:cNvSpPr/>
          <p:nvPr/>
        </p:nvSpPr>
        <p:spPr>
          <a:xfrm flipH="1">
            <a:off x="6934320" y="2133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7848720" y="22096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 flipH="1">
            <a:off x="7620120" y="3581280"/>
            <a:ext cx="39528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1"/>
          <p:cNvSpPr/>
          <p:nvPr/>
        </p:nvSpPr>
        <p:spPr>
          <a:xfrm>
            <a:off x="8305920" y="3505320"/>
            <a:ext cx="419040" cy="61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7"/>
          <p:cNvGrpSpPr/>
          <p:nvPr/>
        </p:nvGrpSpPr>
        <p:grpSpPr>
          <a:xfrm>
            <a:off x="7696080" y="2590920"/>
            <a:ext cx="914400" cy="914400"/>
            <a:chOff x="7696080" y="2590920"/>
            <a:chExt cx="914400" cy="914400"/>
          </a:xfrm>
        </p:grpSpPr>
        <p:sp>
          <p:nvSpPr>
            <p:cNvPr id="143" name="Oval 8"/>
            <p:cNvSpPr/>
            <p:nvPr/>
          </p:nvSpPr>
          <p:spPr>
            <a:xfrm>
              <a:off x="7696080" y="259092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9"/>
            <p:cNvSpPr/>
            <p:nvPr/>
          </p:nvSpPr>
          <p:spPr>
            <a:xfrm>
              <a:off x="7850520" y="28195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7"/>
          <p:cNvGrpSpPr/>
          <p:nvPr/>
        </p:nvGrpSpPr>
        <p:grpSpPr>
          <a:xfrm>
            <a:off x="7086600" y="4267080"/>
            <a:ext cx="914400" cy="914400"/>
            <a:chOff x="7086600" y="4267080"/>
            <a:chExt cx="914400" cy="914400"/>
          </a:xfrm>
        </p:grpSpPr>
        <p:sp>
          <p:nvSpPr>
            <p:cNvPr id="146" name="Oval 8"/>
            <p:cNvSpPr/>
            <p:nvPr/>
          </p:nvSpPr>
          <p:spPr>
            <a:xfrm>
              <a:off x="7086600" y="426708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9"/>
            <p:cNvSpPr/>
            <p:nvPr/>
          </p:nvSpPr>
          <p:spPr>
            <a:xfrm>
              <a:off x="7241040" y="44956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コンテンツ プレースホルダ 2"/>
          <p:cNvSpPr/>
          <p:nvPr/>
        </p:nvSpPr>
        <p:spPr>
          <a:xfrm>
            <a:off x="3851280" y="1268280"/>
            <a:ext cx="251460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配列のサイ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_active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子問題を解くと、サイズ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減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分枝すると、サイズ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つ増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_activenod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_activenode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_activenode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_activenode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_activenode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_activenode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配列のサイズ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ならば終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各頂点でのデータ保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85480" y="1285920"/>
            <a:ext cx="42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各子問題のデータ（定式化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apsack-relax.da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応するデータ）をすべての子問題について保存すると膨大な記憶領域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各子問題に加えられ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-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限定制約のみを保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各頂点の親頂点を保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6357960" y="1428840"/>
            <a:ext cx="914400" cy="914400"/>
            <a:chOff x="6357960" y="1428840"/>
            <a:chExt cx="914400" cy="914400"/>
          </a:xfrm>
        </p:grpSpPr>
        <p:sp>
          <p:nvSpPr>
            <p:cNvPr id="152" name="Oval 8"/>
            <p:cNvSpPr/>
            <p:nvPr/>
          </p:nvSpPr>
          <p:spPr>
            <a:xfrm>
              <a:off x="6357960" y="1428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9"/>
            <p:cNvSpPr/>
            <p:nvPr/>
          </p:nvSpPr>
          <p:spPr>
            <a:xfrm>
              <a:off x="6512400" y="165744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3"/>
          <p:cNvGrpSpPr/>
          <p:nvPr/>
        </p:nvGrpSpPr>
        <p:grpSpPr>
          <a:xfrm>
            <a:off x="5500800" y="2857680"/>
            <a:ext cx="914400" cy="914400"/>
            <a:chOff x="5500800" y="2857680"/>
            <a:chExt cx="914400" cy="914400"/>
          </a:xfrm>
        </p:grpSpPr>
        <p:sp>
          <p:nvSpPr>
            <p:cNvPr id="155" name="Oval 14"/>
            <p:cNvSpPr/>
            <p:nvPr/>
          </p:nvSpPr>
          <p:spPr>
            <a:xfrm>
              <a:off x="5500800" y="285768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5731200" y="30862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6"/>
          <p:cNvGrpSpPr/>
          <p:nvPr/>
        </p:nvGrpSpPr>
        <p:grpSpPr>
          <a:xfrm>
            <a:off x="7929720" y="4857840"/>
            <a:ext cx="914400" cy="914400"/>
            <a:chOff x="7929720" y="4857840"/>
            <a:chExt cx="914400" cy="914400"/>
          </a:xfrm>
        </p:grpSpPr>
        <p:sp>
          <p:nvSpPr>
            <p:cNvPr id="158" name="Oval 17"/>
            <p:cNvSpPr/>
            <p:nvPr/>
          </p:nvSpPr>
          <p:spPr>
            <a:xfrm>
              <a:off x="7929720" y="4857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8084160" y="508644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Line 20"/>
          <p:cNvSpPr/>
          <p:nvPr/>
        </p:nvSpPr>
        <p:spPr>
          <a:xfrm flipH="1">
            <a:off x="5929200" y="2143080"/>
            <a:ext cx="50976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3"/>
          <p:cNvSpPr/>
          <p:nvPr/>
        </p:nvSpPr>
        <p:spPr>
          <a:xfrm>
            <a:off x="7232760" y="2071800"/>
            <a:ext cx="48240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 flipH="1">
            <a:off x="7033680" y="4286160"/>
            <a:ext cx="39564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1"/>
          <p:cNvSpPr/>
          <p:nvPr/>
        </p:nvSpPr>
        <p:spPr>
          <a:xfrm>
            <a:off x="8143920" y="4214880"/>
            <a:ext cx="41904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7"/>
          <p:cNvGrpSpPr/>
          <p:nvPr/>
        </p:nvGrpSpPr>
        <p:grpSpPr>
          <a:xfrm>
            <a:off x="7429680" y="2857680"/>
            <a:ext cx="914400" cy="914400"/>
            <a:chOff x="7429680" y="2857680"/>
            <a:chExt cx="914400" cy="914400"/>
          </a:xfrm>
        </p:grpSpPr>
        <p:sp>
          <p:nvSpPr>
            <p:cNvPr id="165" name="Oval 8"/>
            <p:cNvSpPr/>
            <p:nvPr/>
          </p:nvSpPr>
          <p:spPr>
            <a:xfrm>
              <a:off x="7429680" y="285768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7585920" y="30862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7"/>
          <p:cNvGrpSpPr/>
          <p:nvPr/>
        </p:nvGrpSpPr>
        <p:grpSpPr>
          <a:xfrm>
            <a:off x="6500880" y="4929120"/>
            <a:ext cx="914400" cy="914400"/>
            <a:chOff x="6500880" y="4929120"/>
            <a:chExt cx="914400" cy="914400"/>
          </a:xfrm>
        </p:grpSpPr>
        <p:sp>
          <p:nvSpPr>
            <p:cNvPr id="168" name="Oval 8"/>
            <p:cNvSpPr/>
            <p:nvPr/>
          </p:nvSpPr>
          <p:spPr>
            <a:xfrm>
              <a:off x="6500880" y="492912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"/>
            <p:cNvSpPr/>
            <p:nvPr/>
          </p:nvSpPr>
          <p:spPr>
            <a:xfrm>
              <a:off x="6657120" y="51577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テキスト ボックス 42"/>
          <p:cNvSpPr/>
          <p:nvPr/>
        </p:nvSpPr>
        <p:spPr>
          <a:xfrm>
            <a:off x="4495680" y="4572000"/>
            <a:ext cx="1862280" cy="131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[2]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[3]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[4]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[5]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5569920" y="3886200"/>
            <a:ext cx="7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7551000" y="3733920"/>
            <a:ext cx="7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6560280" y="5867280"/>
            <a:ext cx="7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8084520" y="5867280"/>
            <a:ext cx="7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3"/>
          <p:cNvSpPr/>
          <p:nvPr/>
        </p:nvSpPr>
        <p:spPr>
          <a:xfrm>
            <a:off x="6417360" y="762120"/>
            <a:ext cx="195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根ノードを問題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と定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演習とは異な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子問題のデータ作成：データ構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560" y="1066680"/>
            <a:ext cx="42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同時に解ける問題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問題のデータをその都度作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枝制約を等式制約として加えるのでなく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[i] &lt;= x[i] &lt;=u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[i],u[i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書き換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_branching[i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問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変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ar_branching[i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分枝変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_binary[i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問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分枝変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ar_branching[i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固定される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"/>
          <p:cNvGrpSpPr/>
          <p:nvPr/>
        </p:nvGrpSpPr>
        <p:grpSpPr>
          <a:xfrm>
            <a:off x="6400800" y="990720"/>
            <a:ext cx="914400" cy="914400"/>
            <a:chOff x="6400800" y="990720"/>
            <a:chExt cx="914400" cy="914400"/>
          </a:xfrm>
        </p:grpSpPr>
        <p:sp>
          <p:nvSpPr>
            <p:cNvPr id="179" name="Oval 8"/>
            <p:cNvSpPr/>
            <p:nvPr/>
          </p:nvSpPr>
          <p:spPr>
            <a:xfrm>
              <a:off x="6400800" y="99072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6555240" y="12193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3"/>
          <p:cNvGrpSpPr/>
          <p:nvPr/>
        </p:nvGrpSpPr>
        <p:grpSpPr>
          <a:xfrm>
            <a:off x="5638680" y="2209680"/>
            <a:ext cx="914400" cy="914400"/>
            <a:chOff x="5638680" y="2209680"/>
            <a:chExt cx="914400" cy="914400"/>
          </a:xfrm>
        </p:grpSpPr>
        <p:sp>
          <p:nvSpPr>
            <p:cNvPr id="182" name="Oval 14"/>
            <p:cNvSpPr/>
            <p:nvPr/>
          </p:nvSpPr>
          <p:spPr>
            <a:xfrm>
              <a:off x="5638680" y="220968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5869080" y="24382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6"/>
          <p:cNvGrpSpPr/>
          <p:nvPr/>
        </p:nvGrpSpPr>
        <p:grpSpPr>
          <a:xfrm>
            <a:off x="7924680" y="4495680"/>
            <a:ext cx="914400" cy="914400"/>
            <a:chOff x="7924680" y="4495680"/>
            <a:chExt cx="914400" cy="914400"/>
          </a:xfrm>
        </p:grpSpPr>
        <p:sp>
          <p:nvSpPr>
            <p:cNvPr id="185" name="Oval 17"/>
            <p:cNvSpPr/>
            <p:nvPr/>
          </p:nvSpPr>
          <p:spPr>
            <a:xfrm>
              <a:off x="7924680" y="449568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8079120" y="47242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Line 20"/>
          <p:cNvSpPr/>
          <p:nvPr/>
        </p:nvSpPr>
        <p:spPr>
          <a:xfrm flipH="1">
            <a:off x="6248520" y="1828800"/>
            <a:ext cx="280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7162920" y="18288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8"/>
          <p:cNvSpPr/>
          <p:nvPr/>
        </p:nvSpPr>
        <p:spPr>
          <a:xfrm flipH="1">
            <a:off x="6705720" y="4038480"/>
            <a:ext cx="24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1"/>
          <p:cNvSpPr/>
          <p:nvPr/>
        </p:nvSpPr>
        <p:spPr>
          <a:xfrm>
            <a:off x="8077320" y="4038480"/>
            <a:ext cx="237960" cy="3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7"/>
          <p:cNvGrpSpPr/>
          <p:nvPr/>
        </p:nvGrpSpPr>
        <p:grpSpPr>
          <a:xfrm>
            <a:off x="7238880" y="2286000"/>
            <a:ext cx="914400" cy="914400"/>
            <a:chOff x="7238880" y="2286000"/>
            <a:chExt cx="914400" cy="914400"/>
          </a:xfrm>
        </p:grpSpPr>
        <p:sp>
          <p:nvSpPr>
            <p:cNvPr id="192" name="Oval 8"/>
            <p:cNvSpPr/>
            <p:nvPr/>
          </p:nvSpPr>
          <p:spPr>
            <a:xfrm>
              <a:off x="7238880" y="228600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9"/>
            <p:cNvSpPr/>
            <p:nvPr/>
          </p:nvSpPr>
          <p:spPr>
            <a:xfrm>
              <a:off x="7393320" y="25146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7"/>
          <p:cNvGrpSpPr/>
          <p:nvPr/>
        </p:nvGrpSpPr>
        <p:grpSpPr>
          <a:xfrm>
            <a:off x="6172200" y="4419720"/>
            <a:ext cx="914400" cy="914400"/>
            <a:chOff x="6172200" y="4419720"/>
            <a:chExt cx="914400" cy="914400"/>
          </a:xfrm>
        </p:grpSpPr>
        <p:sp>
          <p:nvSpPr>
            <p:cNvPr id="195" name="Oval 8"/>
            <p:cNvSpPr/>
            <p:nvPr/>
          </p:nvSpPr>
          <p:spPr>
            <a:xfrm>
              <a:off x="6172200" y="441972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9"/>
            <p:cNvSpPr/>
            <p:nvPr/>
          </p:nvSpPr>
          <p:spPr>
            <a:xfrm>
              <a:off x="6326640" y="46483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23"/>
          <p:cNvSpPr/>
          <p:nvPr/>
        </p:nvSpPr>
        <p:spPr>
          <a:xfrm>
            <a:off x="4499280" y="3200400"/>
            <a:ext cx="2139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_branching[3]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_binary[3]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6785280" y="3124080"/>
            <a:ext cx="2139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_branching[2]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_binary[2]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4651920" y="5410080"/>
            <a:ext cx="2139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_branching[5]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_binary[5]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6"/>
          <p:cNvSpPr/>
          <p:nvPr/>
        </p:nvSpPr>
        <p:spPr>
          <a:xfrm>
            <a:off x="7001280" y="5410080"/>
            <a:ext cx="2139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_branching[4]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_binary[4]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子問題のデータ作成：子問題ー根への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560" y="1066680"/>
            <a:ext cx="42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問題選択は、未分枝頂点リストの末尾（奥行優先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_NODELIST[size_active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当該子問題より、親ノードを根ノードまで探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問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[1]&lt;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=u[1]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[var_branching[5]]:= fix_binary[5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[var_branching[5]]:= fix_binary[5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問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[5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探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問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[2]&lt;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=u[2]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[var_branching[2]]:= fix_binar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[var_branching[2]]:= fix_binar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問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親問題は根（頂点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なので終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7"/>
          <p:cNvGrpSpPr/>
          <p:nvPr/>
        </p:nvGrpSpPr>
        <p:grpSpPr>
          <a:xfrm>
            <a:off x="6400800" y="990720"/>
            <a:ext cx="914400" cy="914400"/>
            <a:chOff x="6400800" y="990720"/>
            <a:chExt cx="914400" cy="914400"/>
          </a:xfrm>
        </p:grpSpPr>
        <p:sp>
          <p:nvSpPr>
            <p:cNvPr id="204" name="Oval 8"/>
            <p:cNvSpPr/>
            <p:nvPr/>
          </p:nvSpPr>
          <p:spPr>
            <a:xfrm>
              <a:off x="6400800" y="99072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9"/>
            <p:cNvSpPr/>
            <p:nvPr/>
          </p:nvSpPr>
          <p:spPr>
            <a:xfrm>
              <a:off x="6555240" y="12193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3"/>
          <p:cNvGrpSpPr/>
          <p:nvPr/>
        </p:nvGrpSpPr>
        <p:grpSpPr>
          <a:xfrm>
            <a:off x="5638680" y="2209680"/>
            <a:ext cx="914400" cy="914400"/>
            <a:chOff x="5638680" y="2209680"/>
            <a:chExt cx="914400" cy="914400"/>
          </a:xfrm>
        </p:grpSpPr>
        <p:sp>
          <p:nvSpPr>
            <p:cNvPr id="207" name="Oval 14"/>
            <p:cNvSpPr/>
            <p:nvPr/>
          </p:nvSpPr>
          <p:spPr>
            <a:xfrm>
              <a:off x="5638680" y="220968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5"/>
            <p:cNvSpPr/>
            <p:nvPr/>
          </p:nvSpPr>
          <p:spPr>
            <a:xfrm>
              <a:off x="5869080" y="24382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6"/>
          <p:cNvGrpSpPr/>
          <p:nvPr/>
        </p:nvGrpSpPr>
        <p:grpSpPr>
          <a:xfrm>
            <a:off x="7924680" y="4495680"/>
            <a:ext cx="914400" cy="914400"/>
            <a:chOff x="7924680" y="4495680"/>
            <a:chExt cx="914400" cy="914400"/>
          </a:xfrm>
        </p:grpSpPr>
        <p:sp>
          <p:nvSpPr>
            <p:cNvPr id="210" name="Oval 17"/>
            <p:cNvSpPr/>
            <p:nvPr/>
          </p:nvSpPr>
          <p:spPr>
            <a:xfrm>
              <a:off x="7924680" y="449568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8079120" y="47242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20"/>
          <p:cNvSpPr/>
          <p:nvPr/>
        </p:nvSpPr>
        <p:spPr>
          <a:xfrm flipH="1">
            <a:off x="6248520" y="1828800"/>
            <a:ext cx="280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7162920" y="1828800"/>
            <a:ext cx="3045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8"/>
          <p:cNvSpPr/>
          <p:nvPr/>
        </p:nvSpPr>
        <p:spPr>
          <a:xfrm flipH="1">
            <a:off x="6705720" y="4038480"/>
            <a:ext cx="24264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1"/>
          <p:cNvSpPr/>
          <p:nvPr/>
        </p:nvSpPr>
        <p:spPr>
          <a:xfrm>
            <a:off x="8077320" y="4038480"/>
            <a:ext cx="237960" cy="3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7"/>
          <p:cNvGrpSpPr/>
          <p:nvPr/>
        </p:nvGrpSpPr>
        <p:grpSpPr>
          <a:xfrm>
            <a:off x="7238880" y="2286000"/>
            <a:ext cx="914400" cy="914400"/>
            <a:chOff x="7238880" y="2286000"/>
            <a:chExt cx="914400" cy="914400"/>
          </a:xfrm>
        </p:grpSpPr>
        <p:sp>
          <p:nvSpPr>
            <p:cNvPr id="217" name="Oval 8"/>
            <p:cNvSpPr/>
            <p:nvPr/>
          </p:nvSpPr>
          <p:spPr>
            <a:xfrm>
              <a:off x="7238880" y="228600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7393320" y="25146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7"/>
          <p:cNvGrpSpPr/>
          <p:nvPr/>
        </p:nvGrpSpPr>
        <p:grpSpPr>
          <a:xfrm>
            <a:off x="6172200" y="4419720"/>
            <a:ext cx="914400" cy="914400"/>
            <a:chOff x="6172200" y="4419720"/>
            <a:chExt cx="914400" cy="914400"/>
          </a:xfrm>
        </p:grpSpPr>
        <p:sp>
          <p:nvSpPr>
            <p:cNvPr id="220" name="Oval 8"/>
            <p:cNvSpPr/>
            <p:nvPr/>
          </p:nvSpPr>
          <p:spPr>
            <a:xfrm>
              <a:off x="6172200" y="441972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9"/>
            <p:cNvSpPr/>
            <p:nvPr/>
          </p:nvSpPr>
          <p:spPr>
            <a:xfrm>
              <a:off x="6326640" y="46483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28"/>
          <p:cNvSpPr/>
          <p:nvPr/>
        </p:nvSpPr>
        <p:spPr>
          <a:xfrm>
            <a:off x="4499280" y="3200400"/>
            <a:ext cx="2139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_branching[3]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_binary[3]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6804360" y="3124080"/>
            <a:ext cx="2139120" cy="95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_branching[2]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_binary[2]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4670640" y="5410080"/>
            <a:ext cx="2139120" cy="95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_branching[5]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_binary[5]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7001280" y="5410080"/>
            <a:ext cx="2139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_branching[4]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_binary[4]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分枝するための条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次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つが同時に成り立つときのみ分枝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条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整数解が得られない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 {i in 1..Nitem} x[i]*(1-x[i]) &gt; epsil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...,n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うち、判定係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り大きいものが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問題が実行可能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_result="solved"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問題の目的関数値が暫定値よりよ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&gt; tmpprofit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左の条件より次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つのいずれかが成り立つとき分枝停止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条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整数解が得ら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 {i in 1..Nitem} x[i]*(1-x[i]) &lt;= epsil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問題が実行不可能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_result=“infeasible"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問題の目的関数値が暫定値以下にな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れ以上分枝操作を続けても、暫定値よりよい解は得られない：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限定操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 &lt;= tmpprofi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子問題への分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4149720"/>
            <a:ext cx="439272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左子問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_node_number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枝変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_branching[total_node_number+2]=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_binary[total_node_number+2]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0" y="4076640"/>
            <a:ext cx="439272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右子問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_node_number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枝変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_branching[total_node_number+1]=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_binary[total_node_number+2]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762120" y="1219320"/>
            <a:ext cx="4114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解く問題は常に未分枝頂点リストの末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までに生成された問題総番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_node_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問題解いた時点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_activenod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_activenod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6553080" y="1143000"/>
            <a:ext cx="914400" cy="914400"/>
            <a:chOff x="6553080" y="1143000"/>
            <a:chExt cx="914400" cy="914400"/>
          </a:xfrm>
        </p:grpSpPr>
        <p:sp>
          <p:nvSpPr>
            <p:cNvPr id="234" name="Oval 8"/>
            <p:cNvSpPr/>
            <p:nvPr/>
          </p:nvSpPr>
          <p:spPr>
            <a:xfrm>
              <a:off x="6553080" y="114300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9"/>
            <p:cNvSpPr/>
            <p:nvPr/>
          </p:nvSpPr>
          <p:spPr>
            <a:xfrm>
              <a:off x="6705720" y="13716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3"/>
          <p:cNvGrpSpPr/>
          <p:nvPr/>
        </p:nvGrpSpPr>
        <p:grpSpPr>
          <a:xfrm>
            <a:off x="5410080" y="2209680"/>
            <a:ext cx="1386360" cy="914400"/>
            <a:chOff x="5410080" y="2209680"/>
            <a:chExt cx="1386360" cy="914400"/>
          </a:xfrm>
        </p:grpSpPr>
        <p:sp>
          <p:nvSpPr>
            <p:cNvPr id="237" name="Oval 14"/>
            <p:cNvSpPr/>
            <p:nvPr/>
          </p:nvSpPr>
          <p:spPr>
            <a:xfrm>
              <a:off x="5410080" y="220968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5"/>
            <p:cNvSpPr/>
            <p:nvPr/>
          </p:nvSpPr>
          <p:spPr>
            <a:xfrm>
              <a:off x="5884200" y="2438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左子問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20"/>
          <p:cNvSpPr/>
          <p:nvPr/>
        </p:nvSpPr>
        <p:spPr>
          <a:xfrm flipH="1">
            <a:off x="6019560" y="1523880"/>
            <a:ext cx="50940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>
            <a:off x="7467480" y="1523880"/>
            <a:ext cx="48276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7"/>
          <p:cNvGrpSpPr/>
          <p:nvPr/>
        </p:nvGrpSpPr>
        <p:grpSpPr>
          <a:xfrm>
            <a:off x="7543800" y="2286000"/>
            <a:ext cx="1310400" cy="914400"/>
            <a:chOff x="7543800" y="2286000"/>
            <a:chExt cx="1310400" cy="914400"/>
          </a:xfrm>
        </p:grpSpPr>
        <p:sp>
          <p:nvSpPr>
            <p:cNvPr id="242" name="Oval 8"/>
            <p:cNvSpPr/>
            <p:nvPr/>
          </p:nvSpPr>
          <p:spPr>
            <a:xfrm>
              <a:off x="7543800" y="228600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7941960" y="2514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右子問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9"/>
          <p:cNvSpPr/>
          <p:nvPr/>
        </p:nvSpPr>
        <p:spPr>
          <a:xfrm>
            <a:off x="4461120" y="455760"/>
            <a:ext cx="498456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題番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_NODELIST[size_activenode+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5281200" y="3200400"/>
            <a:ext cx="884880" cy="64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7719480" y="3276720"/>
            <a:ext cx="884880" cy="64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演習問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分枝停止となる場合、分枝停止理由をファイルに表示させ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整数解が得られ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行不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暫定値よりよい解がない（限定操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施設配置問題への適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発展的課題：奥行優先以外の子問題選択規則（幅優先）は難し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数理計画問題を解く解法（アルゴリズ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定式化」された問題は、適当な解法で解き、解を求め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ソフトウェアを利用して解くか、自分でプログラムを作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解法の種類（数理計画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厳密解法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最適性を保証する解を求める解法）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近似解法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最適性は保証しないが、良い解を早く求め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列挙法：いかに「すべての」解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『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列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』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するか（直接／間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陽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licit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列挙／陰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mplicit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列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バックトラック法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backtrack algorith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プログラムは比較的容易（列挙順序は固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分枝限定法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branch and bound 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解の列挙順序は解法の詳細に大きく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結果ファイル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出力はカスタマイズ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3240000" cy="547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反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******************************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number of subproblems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Problem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_NODELIST[1]=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_activenode = 1.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ve_result = sol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it = 13.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 l          u          x        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0.000000   1.000000   1.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0.000000   1.000000   0.75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  0.000000   1.000000   0.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CONSTRAINT VIO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problem 2 and 3 gener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ORALLY objective value         -10000000000.0000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3886200" y="121932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3851280" y="1052640"/>
            <a:ext cx="4932360" cy="547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反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*****************************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number of subproblems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Problem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_NODELIST[1]=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_NODELIST[2]=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_activenode = 2.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ve_result = sol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it = 10.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 l          u          x        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0.000000   1.000000   1.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0.000000   0.000000   0.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  0.000000   1.000000   1.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NCHING stopped: integer solution obtai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ORALLY objective value         -10000000000.0000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ORALLY objective value refined 10.0000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分枝停止理由をファイルに表示させ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実行不可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solve_result="infeasible"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f: "BRANCHING stopped: infeasibility \n" &gt;bb-knapsack.so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整数解が得られ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(forall {i in 1..Nitem} x[i]*(1-x[i]) &lt; epsil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(solve_result="solved")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f: "BRANCHING stopped: integer solution obtained \n" &gt;bb-knapsack.so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暫定値よりよい解がない（限定操作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 (Profit &lt;= tmpprof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(solve_result="solved")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f: "BRANCHING stopped: bounding procedure \n" &gt;bb-knapsack.so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370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ナップサック問題の緩和問題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連続緩和：整数条件を緩め、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≦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とす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P-L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0" i="1" lang="en-US" sz="2400" spc="-1" strike="noStrike" baseline="5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s.t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0" i="1" lang="en-US" sz="2400" spc="-1" strike="noStrike" baseline="5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≦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≧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j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...,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成り立つと仮定してよい（効率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KP-LP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最大化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制約　　　     　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 ≦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　　　　　　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33(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万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kg)≧2(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万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kg)≧1.5(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万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緩和問題の最適解は効率順に品物を詰め込み、入りきらない品物を一部分だけ入れる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=         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       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緩和問題の最適解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-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条件を満た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って、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=    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    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へと小数値を切り捨てる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P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実行可能解が得られるが、最適解では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緩和問題の最適解を、四捨五入、切上げ、切下げなどにより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整数値に丸めても、対応する整数計画問題の最適解が得られるとは限ら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緩和問題の最適目的関数値      ≧ 元問題の最適目的関数値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375840"/>
            <a:ext cx="8280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ナップサック問題の連続緩和問題（貪欲解）</a:t>
            </a:r>
            <a:br>
              <a:rPr sz="3200"/>
            </a:br>
            <a:r>
              <a:rPr b="0" lang="ja-JP" sz="3200" spc="-1" strike="noStrike" u="sng">
                <a:solidFill>
                  <a:srgbClr val="000000"/>
                </a:solidFill>
                <a:uFillTx/>
                <a:latin typeface="Times New Roman"/>
              </a:rPr>
              <a:t>効率の良い品物から（小数解を許し）詰め込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P1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最大化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6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制約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≦ 5,     0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≦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緩和問題の最適解：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=     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       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ナップサック問題の最適解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=     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      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緩和問題の最適目的関数値     ≧ 元問題の最適目的関数値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P2)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最大化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1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+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+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+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制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+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+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≦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 0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≦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効率         ≧       ≧     ≧      なので、   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の順に入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緩和問題の最適解：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=         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     ,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    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ナップサック問題の最適解：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=      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    ,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    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緩和問題の最適目的関数値        ≧ 元問題の最適目的関数値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緩和問題は、条件を緩めているので良い値が出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分枝限定法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nch and Boun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分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branching)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変数値を枝分かれしながら固定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==&gt;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子問題、部分問題へ分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限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bounding)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条件を考慮して解の範囲を限定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==&gt;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全列挙を行う必要がない場合も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基本的用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：元問題の最適目的関数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下界値≦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≦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上界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大化問題では、下界値は実行可能解から、上界値は緩和問題から得ら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暫定（目的関数）値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　これまでに見つかっている最良の解の目的関数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暫定解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　これまでに見つかっている最良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分枝変数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　分枝の対象となる変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分枝頂点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　分枝の対象となる頂点（子問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未分枝頂点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　まだ探索が終わっていない頂点（子問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9752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0000"/>
                </a:solidFill>
                <a:uFillTx/>
                <a:latin typeface="Times New Roman"/>
              </a:rPr>
              <a:t>分枝操作（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ranching operation</a:t>
            </a:r>
            <a:r>
              <a:rPr b="0" lang="ja-JP" sz="2800" spc="-1" strike="noStrike" u="sng">
                <a:solidFill>
                  <a:srgbClr val="ff0000"/>
                </a:solidFill>
                <a:uFillTx/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42120" y="631440"/>
            <a:ext cx="35416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ある問題（「親問題」）の実行可能領域をいくつかに分割し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複数の「子問題（部分問題）」を生成する操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分枝変数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： 分割に用いた変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列挙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子問題＝列挙木の頂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31"/>
          <p:cNvGrpSpPr/>
          <p:nvPr/>
        </p:nvGrpSpPr>
        <p:grpSpPr>
          <a:xfrm>
            <a:off x="177840" y="1050840"/>
            <a:ext cx="5263920" cy="3050280"/>
            <a:chOff x="177840" y="1050840"/>
            <a:chExt cx="5263920" cy="3050280"/>
          </a:xfrm>
        </p:grpSpPr>
        <p:sp>
          <p:nvSpPr>
            <p:cNvPr id="62" name="Oval 5"/>
            <p:cNvSpPr/>
            <p:nvPr/>
          </p:nvSpPr>
          <p:spPr>
            <a:xfrm>
              <a:off x="2760480" y="1050840"/>
              <a:ext cx="728640" cy="71100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"/>
            <p:cNvSpPr/>
            <p:nvPr/>
          </p:nvSpPr>
          <p:spPr>
            <a:xfrm>
              <a:off x="2481120" y="2633400"/>
              <a:ext cx="627120" cy="59688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"/>
            <p:cNvSpPr/>
            <p:nvPr/>
          </p:nvSpPr>
          <p:spPr>
            <a:xfrm>
              <a:off x="3849480" y="1769760"/>
              <a:ext cx="649440" cy="64764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8"/>
            <p:cNvSpPr/>
            <p:nvPr/>
          </p:nvSpPr>
          <p:spPr>
            <a:xfrm>
              <a:off x="1761840" y="1769760"/>
              <a:ext cx="646200" cy="62712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>
              <a:off x="680760" y="2562120"/>
              <a:ext cx="633600" cy="63000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0"/>
            <p:cNvSpPr/>
            <p:nvPr/>
          </p:nvSpPr>
          <p:spPr>
            <a:xfrm flipH="1">
              <a:off x="2121840" y="1338120"/>
              <a:ext cx="6462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3489120" y="1266480"/>
              <a:ext cx="64764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 flipH="1">
              <a:off x="825480" y="1985760"/>
              <a:ext cx="95544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2409840" y="2130120"/>
              <a:ext cx="50328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 flipH="1">
              <a:off x="2000160" y="2954160"/>
              <a:ext cx="48096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5"/>
            <p:cNvSpPr/>
            <p:nvPr/>
          </p:nvSpPr>
          <p:spPr>
            <a:xfrm>
              <a:off x="3108240" y="2993760"/>
              <a:ext cx="442800" cy="3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1492200" y="1266480"/>
              <a:ext cx="125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3797280" y="1266480"/>
              <a:ext cx="966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8"/>
            <p:cNvSpPr/>
            <p:nvPr/>
          </p:nvSpPr>
          <p:spPr>
            <a:xfrm>
              <a:off x="384120" y="1985760"/>
              <a:ext cx="119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9"/>
            <p:cNvSpPr/>
            <p:nvPr/>
          </p:nvSpPr>
          <p:spPr>
            <a:xfrm>
              <a:off x="2481120" y="1985760"/>
              <a:ext cx="1008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3"/>
            <p:cNvSpPr/>
            <p:nvPr/>
          </p:nvSpPr>
          <p:spPr>
            <a:xfrm flipH="1">
              <a:off x="199800" y="2874600"/>
              <a:ext cx="48096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4"/>
            <p:cNvSpPr/>
            <p:nvPr/>
          </p:nvSpPr>
          <p:spPr>
            <a:xfrm>
              <a:off x="1314360" y="2835000"/>
              <a:ext cx="444600" cy="3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5"/>
            <p:cNvSpPr/>
            <p:nvPr/>
          </p:nvSpPr>
          <p:spPr>
            <a:xfrm flipH="1">
              <a:off x="3425760" y="2239920"/>
              <a:ext cx="480960" cy="3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6"/>
            <p:cNvSpPr/>
            <p:nvPr/>
          </p:nvSpPr>
          <p:spPr>
            <a:xfrm>
              <a:off x="4497120" y="2199960"/>
              <a:ext cx="444600" cy="39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28"/>
            <p:cNvSpPr/>
            <p:nvPr/>
          </p:nvSpPr>
          <p:spPr>
            <a:xfrm rot="16200000">
              <a:off x="2565360" y="922320"/>
              <a:ext cx="488880" cy="5263920"/>
            </a:xfrm>
            <a:custGeom>
              <a:avLst/>
              <a:gdLst>
                <a:gd name="textAreaLeft" fmla="*/ 312480 w 488880"/>
                <a:gd name="textAreaRight" fmla="*/ 489240 w 488880"/>
                <a:gd name="textAreaTop" fmla="*/ 137160 h 5263920"/>
                <a:gd name="textAreaBottom" fmla="*/ 5126760 h 526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9"/>
            <p:cNvSpPr/>
            <p:nvPr/>
          </p:nvSpPr>
          <p:spPr>
            <a:xfrm>
              <a:off x="3367800" y="36414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32"/>
          <p:cNvSpPr/>
          <p:nvPr/>
        </p:nvSpPr>
        <p:spPr>
          <a:xfrm>
            <a:off x="384120" y="4098960"/>
            <a:ext cx="809964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333399"/>
                </a:solidFill>
                <a:uFillTx/>
                <a:latin typeface="Arial"/>
              </a:rPr>
              <a:t>限定操作</a:t>
            </a:r>
            <a:r>
              <a:rPr b="0" lang="ja-JP" sz="2400" spc="-1" strike="noStrike" u="sng">
                <a:solidFill>
                  <a:srgbClr val="333399"/>
                </a:solidFill>
                <a:uFillTx/>
                <a:latin typeface="Times New Roman"/>
              </a:rPr>
              <a:t>（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bounding operation</a:t>
            </a:r>
            <a:r>
              <a:rPr b="0" lang="ja-JP" sz="2400" spc="-1" strike="noStrike" u="sng">
                <a:solidFill>
                  <a:srgbClr val="333399"/>
                </a:solidFill>
                <a:uFillTx/>
                <a:latin typeface="Times New Roman"/>
              </a:rPr>
              <a:t>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大化の場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る子問題に分枝操作を施す必要があるか否かを判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具体的に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緩和問題から得られる上界値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手元にある暫定値より小さい場合、分枝を停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緩和してもこれまでに得られた解より悪い値しか得られ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-1</a:t>
            </a: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ナップサック問題に対する</a:t>
            </a:r>
            <a:br>
              <a:rPr sz="3600"/>
            </a:b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分枝限定法の設計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上界値の算出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線形緩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下界値（実行可能解）の算出方法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容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最適解の切り下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分枝変数の選択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どの変数で枝分かれするか？）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最適解で小数値をとる変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問題番号を大きく（左子問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 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最適解で小数値をとる変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問題番号を小さく（右子問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ja-JP" sz="2400" spc="-1" strike="noStrike" u="sng">
                <a:solidFill>
                  <a:srgbClr val="333399"/>
                </a:solidFill>
                <a:uFillTx/>
                <a:latin typeface="Times New Roman"/>
              </a:rPr>
              <a:t>分枝頂点（分枝子問題）の選択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どの頂点から分枝するか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深さ優先規則（未分枝頂点リストから最も番号の大きいも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分枝が停止する場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-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条件を満た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実行不可能な場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限定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数値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4962600" y="115920"/>
                <a:ext cx="347328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sSubSup>
                          <m:e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sSubSup>
                          <m:e/>
                          <m:sub/>
                          <m:sup/>
                        </m:sSubSup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Sup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6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緩和最適解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緩和最適値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P</m:t>
                        </m:r>
                        <m:r>
                          <m:rPr>
                            <m:lit/>
                            <m:nor/>
                          </m:rPr>
                          <m:t xml:space="preserve">の最適値の上界</m:t>
                        </m:r>
                        <m:r>
                          <m:t xml:space="preserve">)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暫定目的関数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/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小数切捨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8" name="Group 4"/>
          <p:cNvGrpSpPr/>
          <p:nvPr/>
        </p:nvGrpSpPr>
        <p:grpSpPr>
          <a:xfrm>
            <a:off x="3200400" y="380880"/>
            <a:ext cx="914400" cy="914400"/>
            <a:chOff x="3200400" y="380880"/>
            <a:chExt cx="914400" cy="914400"/>
          </a:xfrm>
        </p:grpSpPr>
        <p:sp>
          <p:nvSpPr>
            <p:cNvPr id="89" name="Text Box 5"/>
            <p:cNvSpPr/>
            <p:nvPr/>
          </p:nvSpPr>
          <p:spPr>
            <a:xfrm>
              <a:off x="3355200" y="60948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6"/>
            <p:cNvSpPr/>
            <p:nvPr/>
          </p:nvSpPr>
          <p:spPr>
            <a:xfrm>
              <a:off x="3200400" y="38088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7"/>
          <p:cNvGrpSpPr/>
          <p:nvPr/>
        </p:nvGrpSpPr>
        <p:grpSpPr>
          <a:xfrm>
            <a:off x="4267080" y="2057400"/>
            <a:ext cx="914400" cy="914400"/>
            <a:chOff x="4267080" y="2057400"/>
            <a:chExt cx="914400" cy="914400"/>
          </a:xfrm>
        </p:grpSpPr>
        <p:sp>
          <p:nvSpPr>
            <p:cNvPr id="92" name="Oval 8"/>
            <p:cNvSpPr/>
            <p:nvPr/>
          </p:nvSpPr>
          <p:spPr>
            <a:xfrm>
              <a:off x="4267080" y="205740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4421520" y="22860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0"/>
          <p:cNvGrpSpPr/>
          <p:nvPr/>
        </p:nvGrpSpPr>
        <p:grpSpPr>
          <a:xfrm>
            <a:off x="2133720" y="2057400"/>
            <a:ext cx="914400" cy="914400"/>
            <a:chOff x="2133720" y="2057400"/>
            <a:chExt cx="914400" cy="914400"/>
          </a:xfrm>
        </p:grpSpPr>
        <p:sp>
          <p:nvSpPr>
            <p:cNvPr id="95" name="Oval 11"/>
            <p:cNvSpPr/>
            <p:nvPr/>
          </p:nvSpPr>
          <p:spPr>
            <a:xfrm>
              <a:off x="2133720" y="205740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2"/>
            <p:cNvSpPr/>
            <p:nvPr/>
          </p:nvSpPr>
          <p:spPr>
            <a:xfrm>
              <a:off x="2364120" y="22860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"/>
          <p:cNvGrpSpPr/>
          <p:nvPr/>
        </p:nvGrpSpPr>
        <p:grpSpPr>
          <a:xfrm>
            <a:off x="4794120" y="4029120"/>
            <a:ext cx="914400" cy="914400"/>
            <a:chOff x="4794120" y="4029120"/>
            <a:chExt cx="914400" cy="914400"/>
          </a:xfrm>
        </p:grpSpPr>
        <p:sp>
          <p:nvSpPr>
            <p:cNvPr id="98" name="Oval 14"/>
            <p:cNvSpPr/>
            <p:nvPr/>
          </p:nvSpPr>
          <p:spPr>
            <a:xfrm>
              <a:off x="4794120" y="402912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5"/>
            <p:cNvSpPr/>
            <p:nvPr/>
          </p:nvSpPr>
          <p:spPr>
            <a:xfrm>
              <a:off x="5024520" y="42577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6"/>
          <p:cNvGrpSpPr/>
          <p:nvPr/>
        </p:nvGrpSpPr>
        <p:grpSpPr>
          <a:xfrm>
            <a:off x="3048120" y="4114800"/>
            <a:ext cx="914400" cy="914400"/>
            <a:chOff x="3048120" y="4114800"/>
            <a:chExt cx="914400" cy="914400"/>
          </a:xfrm>
        </p:grpSpPr>
        <p:sp>
          <p:nvSpPr>
            <p:cNvPr id="101" name="Oval 17"/>
            <p:cNvSpPr/>
            <p:nvPr/>
          </p:nvSpPr>
          <p:spPr>
            <a:xfrm>
              <a:off x="3048120" y="411480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8"/>
            <p:cNvSpPr/>
            <p:nvPr/>
          </p:nvSpPr>
          <p:spPr>
            <a:xfrm>
              <a:off x="3202560" y="43434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9"/>
          <p:cNvGrpSpPr/>
          <p:nvPr/>
        </p:nvGrpSpPr>
        <p:grpSpPr>
          <a:xfrm>
            <a:off x="2246400" y="1219320"/>
            <a:ext cx="1105920" cy="761760"/>
            <a:chOff x="2246400" y="1219320"/>
            <a:chExt cx="1105920" cy="761760"/>
          </a:xfrm>
        </p:grpSpPr>
        <p:sp>
          <p:nvSpPr>
            <p:cNvPr id="104" name="Line 20"/>
            <p:cNvSpPr/>
            <p:nvPr/>
          </p:nvSpPr>
          <p:spPr>
            <a:xfrm flipH="1">
              <a:off x="2819160" y="1219320"/>
              <a:ext cx="5331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21"/>
                <p:cNvSpPr txBox="1"/>
                <p:nvPr/>
              </p:nvSpPr>
              <p:spPr>
                <a:xfrm>
                  <a:off x="2246400" y="1339920"/>
                  <a:ext cx="53316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6" name="Group 22"/>
          <p:cNvGrpSpPr/>
          <p:nvPr/>
        </p:nvGrpSpPr>
        <p:grpSpPr>
          <a:xfrm>
            <a:off x="3174840" y="1295280"/>
            <a:ext cx="1397160" cy="762120"/>
            <a:chOff x="3174840" y="1295280"/>
            <a:chExt cx="1397160" cy="762120"/>
          </a:xfrm>
        </p:grpSpPr>
        <p:sp>
          <p:nvSpPr>
            <p:cNvPr id="107" name="Line 23"/>
            <p:cNvSpPr/>
            <p:nvPr/>
          </p:nvSpPr>
          <p:spPr>
            <a:xfrm>
              <a:off x="4114800" y="1295280"/>
              <a:ext cx="457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24"/>
                <p:cNvSpPr txBox="1"/>
                <p:nvPr/>
              </p:nvSpPr>
              <p:spPr>
                <a:xfrm>
                  <a:off x="3174840" y="1351080"/>
                  <a:ext cx="117792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      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" name="Object 25"/>
              <p:cNvSpPr txBox="1"/>
              <p:nvPr/>
            </p:nvSpPr>
            <p:spPr>
              <a:xfrm>
                <a:off x="263520" y="1685880"/>
                <a:ext cx="2604960" cy="21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未分枝頂点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sSubSup>
                          <m:e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sSubSup>
                          <m:e/>
                          <m:sub/>
                          <m:sup/>
                        </m:sSubSup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Sup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sSubSup>
                          <m:e/>
                          <m:sub/>
                          <m:sup/>
                        </m:sSubSup>
                        <m:r>
                          <m:t xml:space="preserve">6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緩和最適解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暫定目的関数値更新</m:t>
                        </m:r>
                        <m:sSub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/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/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分枝停止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26"/>
              <p:cNvSpPr txBox="1"/>
              <p:nvPr/>
            </p:nvSpPr>
            <p:spPr>
              <a:xfrm>
                <a:off x="5708520" y="2030400"/>
                <a:ext cx="319428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未分枝頂点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sSubSup>
                          <m:e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sSubSup>
                          <m:e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e>
                          <m:sub/>
                          <m:sup/>
                        </m:sSubSup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Sup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sSubSup>
                          <m:e/>
                          <m:sub/>
                          <m:sup/>
                        </m:sSubSup>
                        <m:r>
                          <m:t xml:space="preserve">2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緩和最適解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緩和最適値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1</m:t>
                        </m:r>
                        <m:r>
                          <m:rPr>
                            <m:lit/>
                            <m:nor/>
                          </m:rPr>
                          <m:t xml:space="preserve">の最適値の上界</m:t>
                        </m:r>
                        <m:r>
                          <m:t xml:space="preserve">)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暫定目的関数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/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小数切捨による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/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だが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rPr>
                            <m:lit/>
                            <m:nor/>
                          </m:rPr>
                          <m:t xml:space="preserve">でより良い暫定値が得られている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1" name="Group 27"/>
          <p:cNvGrpSpPr/>
          <p:nvPr/>
        </p:nvGrpSpPr>
        <p:grpSpPr>
          <a:xfrm>
            <a:off x="3133800" y="3124080"/>
            <a:ext cx="1132920" cy="762120"/>
            <a:chOff x="3133800" y="3124080"/>
            <a:chExt cx="1132920" cy="762120"/>
          </a:xfrm>
        </p:grpSpPr>
        <p:sp>
          <p:nvSpPr>
            <p:cNvPr id="112" name="Line 28"/>
            <p:cNvSpPr/>
            <p:nvPr/>
          </p:nvSpPr>
          <p:spPr>
            <a:xfrm flipH="1">
              <a:off x="3733560" y="312408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Object 29"/>
                <p:cNvSpPr txBox="1"/>
                <p:nvPr/>
              </p:nvSpPr>
              <p:spPr>
                <a:xfrm>
                  <a:off x="3133800" y="3238560"/>
                  <a:ext cx="8953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    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4" name="Group 30"/>
          <p:cNvGrpSpPr/>
          <p:nvPr/>
        </p:nvGrpSpPr>
        <p:grpSpPr>
          <a:xfrm>
            <a:off x="4238640" y="3124080"/>
            <a:ext cx="1095480" cy="762120"/>
            <a:chOff x="4238640" y="3124080"/>
            <a:chExt cx="1095480" cy="762120"/>
          </a:xfrm>
        </p:grpSpPr>
        <p:sp>
          <p:nvSpPr>
            <p:cNvPr id="115" name="Line 31"/>
            <p:cNvSpPr/>
            <p:nvPr/>
          </p:nvSpPr>
          <p:spPr>
            <a:xfrm>
              <a:off x="4876920" y="3124080"/>
              <a:ext cx="457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Object 32"/>
                <p:cNvSpPr txBox="1"/>
                <p:nvPr/>
              </p:nvSpPr>
              <p:spPr>
                <a:xfrm>
                  <a:off x="4238640" y="3324240"/>
                  <a:ext cx="91440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     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" name="Object 34"/>
              <p:cNvSpPr txBox="1"/>
              <p:nvPr/>
            </p:nvSpPr>
            <p:spPr>
              <a:xfrm>
                <a:off x="5807160" y="4952880"/>
                <a:ext cx="255096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未分枝頂点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sSubSup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sSubSup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  <m:sub/>
                          <m:sup/>
                        </m:sSubSup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Sup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sSubSup>
                          <m:e/>
                          <m:sub/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分枝停止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42"/>
              <p:cNvSpPr txBox="1"/>
              <p:nvPr/>
            </p:nvSpPr>
            <p:spPr>
              <a:xfrm>
                <a:off x="387360" y="4029120"/>
                <a:ext cx="3708360" cy="23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未分枝頂点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sSubSup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sSubSup>
                          <m:e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e>
                          <m:sub/>
                          <m:sup/>
                        </m:sSubSup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Sup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sSubSup>
                          <m:e/>
                          <m:sub/>
                          <m:sup/>
                        </m:sSubSup>
                        <m:r>
                          <m:t xml:space="preserve">2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緩和最適解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緩和最適値</m:t>
                        </m:r>
                        <m:sSub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/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/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暫定目的関数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/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rPr>
                            <m:lit/>
                            <m:nor/>
                          </m:rPr>
                          <m:t xml:space="preserve">暫定値更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分枝停止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分枝限定法の実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枝限定法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混合整数計画問題に対しては、一般的なソルバーでも使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枝限定法のカスタマイ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分枝切除法（分枝限定法＋切除平面法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分枝価格法（分枝限定法＋列生成法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にも、特定の細かい分枝ルールを制御したい、あるい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ない場合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れまで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基づ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すら、実装は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各子問題のデータ、未分枝頂点の管理が難し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(seco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以降）によると、反復計算（データ置換（定数、係数）、制約式、変数追加など）容易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2:47:09Z</dcterms:created>
  <dc:creator>森戸　晋</dc:creator>
  <dc:description/>
  <dc:language>en-US</dc:language>
  <cp:lastModifiedBy>TShiina</cp:lastModifiedBy>
  <cp:lastPrinted>2000-06-15T13:41:48Z</cp:lastPrinted>
  <dcterms:modified xsi:type="dcterms:W3CDTF">2016-09-16T06:45:25Z</dcterms:modified>
  <cp:revision>148</cp:revision>
  <dc:subject/>
  <dc:title>数理計画問題の定式化</dc:title>
</cp:coreProperties>
</file>